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587-6A2B-42FE-BB7D-FB571961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6AAF-051D-45F6-A085-B19CF180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CF3F-CB49-4110-B613-52969FAE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4198-A879-4683-8F85-782991BA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AC6AC-181D-4531-A535-81BD2F93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A2CAE-E951-470B-8D52-9557C4DA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11CC7-85B5-4699-8FE5-638C4869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62DEC-1FA3-402A-AC33-22331FD5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E8FC2-2D05-465A-B66A-343800D3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2F454-7682-4EDB-AA88-0828F9C5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E1BF1-9CD9-4965-A6BE-2CC251AF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BA1-7CCF-4776-9E63-E645E889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E7DED-F2B3-4EFE-B6B5-DA668461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BEDA2-0846-4E2C-9FF7-2B60B3FD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990CE-E4F7-4057-BAD5-A539D2CA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C8CC2-B348-4F25-8A77-E40F9A80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46076-F75D-4961-AD64-8DE54660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6B7-39ED-458E-905B-BE39A264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7F7-F473-454B-9A71-4AF64C04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24AA-1B19-4E70-BFA1-B01A49BD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C5C6-F112-409A-8C46-E1D9F617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631-05C9-44EB-8D73-70B85E06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3F5-DA23-41A3-B396-1137A30C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1AD-B9AD-4C27-BB88-480C9B56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503B-8893-4F70-984C-2C58A8671F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AE63-6416-4262-AC40-1C90C98521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La Cas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251460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                </a:t>
            </a:r>
            <a:r>
              <a:rPr b="1" lang="en-US" sz="3200" spc="-1" strike="noStrike" u="sng">
                <a:solidFill>
                  <a:srgbClr val="00c600"/>
                </a:solidFill>
                <a:uFillTx/>
                <a:latin typeface="Tahoma"/>
              </a:rPr>
              <a:t>Por Tommy Coll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6172200" cy="3276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bano es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  <a:ea typeface="Tahoma"/>
              </a:rPr>
              <a:t>pequeña y vie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324840" cy="5261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sala es grande lujo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981080" y="2362320"/>
            <a:ext cx="5505480" cy="3670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backyard es grande y boni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52480" y="2666880"/>
            <a:ext cx="4967280" cy="3719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garaje es moderno y bell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1676520"/>
            <a:ext cx="6639120" cy="44542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82240" cy="4510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3808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Mi patio es grande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y el fabulo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sala es estupendola y moder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19320" y="1752480"/>
            <a:ext cx="6858000" cy="4570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Mi cocina es </a:t>
            </a:r>
            <a:r>
              <a:rPr b="1" lang="en-US" sz="3200" spc="-1" strike="noStrike">
                <a:solidFill>
                  <a:srgbClr val="00c600"/>
                </a:solidFill>
                <a:latin typeface="Tahoma"/>
                <a:ea typeface="Tahoma"/>
              </a:rPr>
              <a:t>bonita no es pequeñ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2286000"/>
            <a:ext cx="7257960" cy="4105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cuatro es lujoso y nue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5600520" cy="37306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cuatro es increible y bell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6019920" cy="3504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cuatro no es antiguo y vie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734160" cy="4701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piscina es magnifico y impresio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6005520" cy="3351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i piscina es magnifico y impresio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828800" y="2548080"/>
            <a:ext cx="4876920" cy="33163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13:06Z</dcterms:created>
  <dc:creator>collinstho</dc:creator>
  <dc:description/>
  <dc:language>en-US</dc:language>
  <cp:lastModifiedBy>collinstho</cp:lastModifiedBy>
  <dcterms:modified xsi:type="dcterms:W3CDTF">2013-04-04T15:40:36Z</dcterms:modified>
  <cp:revision>10</cp:revision>
  <dc:subject/>
  <dc:title>La Casa </dc:title>
</cp:coreProperties>
</file>